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9B5-8F97-4452-A8D6-EDFC6BF2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0BF-F226-4F5F-930A-4DC55903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C8B-D792-4B8F-B4B2-D63535D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DD5-BD8A-4FEC-989A-AA7236D1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2BB-DC06-4E37-9251-0F3CEE5B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269-C4AF-4218-94DA-22C6785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1B7-214B-4FDB-B962-7C64214C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DFB-2A4B-4CEB-BC09-B7B24CC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9E2-EDA4-44AE-B849-2224D1F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CB4-12AE-4E3A-B02C-962AA73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5C0-9E2F-44CC-BA9A-512DDDE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699-51CB-4672-8385-39A01EA1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B177-9650-415F-92EB-53AA0C8E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549360"/>
            <a:ext cx="82072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Belief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n-US" sz="2400" spc="-1" strike="noStrike" baseline="30000">
                <a:solidFill>
                  <a:srgbClr val="000099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Belief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Jesus – Man &amp;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06064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‘Hinge’ for Christianit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of J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ristianity claims Jesus = both God &amp;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e. God the son  took on 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low :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od the Son (eter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akes on flesh  (Inca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back to heaven with flesh (asc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642160" cy="172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VIDENCE</a:t>
            </a: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i - B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 Testam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esus’ divi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mmanuel’ = God with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r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s claims (I am…….;   I and  the father are 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ther speaks “My 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see him was to ‘see the Fath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esus non-denial (blasphe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y Lord’…. ‘my God’  Thomas, Pet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y worshipped him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esus’ hum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rn, tired, hungry, bled, ….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mited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ther N.T. letters affirm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.g.  Philippians 2:6,7  “..very nature God…made as a man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.g. 1 Cor 8;5 ‘one God…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VIDENC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ii -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ed i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ters, stories, creed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ed i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Church Council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ideas that Jesus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y only God – looked like a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y only a man – with ‘divine’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ort of ‘other’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: truly God &amp; truly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 – two 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IMPLIC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s Unique (God +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rap mind 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it happ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us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on new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now what God i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mportant to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= knowing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us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on new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a mere ‘man’ d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ins are signific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after death is a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3:19:12Z</dcterms:created>
  <dc:creator>Shore</dc:creator>
  <dc:description/>
  <dc:language>en-US</dc:language>
  <cp:lastModifiedBy>Shore</cp:lastModifiedBy>
  <dcterms:modified xsi:type="dcterms:W3CDTF">2008-02-29T03:57:27Z</dcterms:modified>
  <cp:revision>22</cp:revision>
  <dc:subject/>
  <dc:title>Slide 1</dc:title>
</cp:coreProperties>
</file>